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4E2DD-C37D-4979-83D9-30B7D605F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6FF1-2346-4758-B9BE-05B0BAC4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B383A-A722-40B6-8A72-02258896E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F96C8-218D-41E7-98C2-F33E071C4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FEE3E3-1A9E-496A-A329-E8AEE8278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AB3D6-33F0-4C0A-8D25-244DBFFD8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A933C-47E5-4FBB-8CA2-D437A0744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E7120-3F99-42FC-A6AA-CD5AFD683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5622A-BA43-47FA-B4B8-523390999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41AFC-1708-493A-88E1-8B40644CB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5EE94-C67A-43A6-A5BB-BB2C6873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0350F-4737-4AFE-8BDE-E86A61F6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B1B20-C4DE-443E-A1AA-9571DD80C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17F47-EFD7-44F1-AC08-18109E90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23D2B-1CE5-4696-BC38-9580C7B0D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872B5-08F4-4D21-ADB4-208ACAA4F0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AF83F-B6BA-4AD9-A5BF-34C5415BD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E1721-0BBD-4523-80DA-56F64A334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39B3C-A44A-4BE9-A53A-C44D2E39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6A0E2-141D-44EF-816E-A3454D83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2A486-F12B-42BC-A68E-48E99C49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B7B0F-1BD7-4119-A9F8-475EF370E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30B3-0441-4A70-BC0A-6A421BF19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82E02-4854-4F23-947B-8FA14E470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4419-5FF0-454D-BB5B-8CFFAF6309B2}"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15D7-FF91-4453-8523-938C9C7BC75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youtube.com/watch?v=lAur_I077NA"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youtube.com/watch?v=AWeZ5SKXvj8"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WFnSxeDfENk&amp;feature=related"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Cold War at Home</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r: McCarthyism</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cCarthy’s Power Increases</a:t>
            </a:r>
            <a:endParaRPr b="0" lang="en-US" sz="4400" spc="-1" strike="noStrike">
              <a:solidFill>
                <a:srgbClr val="ffffcc"/>
              </a:solidFill>
              <a:latin typeface="Tahoma"/>
            </a:endParaRPr>
          </a:p>
        </p:txBody>
      </p:sp>
      <p:sp>
        <p:nvSpPr>
          <p:cNvPr id="115" name="PlaceHolder 2"/>
          <p:cNvSpPr>
            <a:spLocks noGrp="1"/>
          </p:cNvSpPr>
          <p:nvPr>
            <p:ph/>
          </p:nvPr>
        </p:nvSpPr>
        <p:spPr>
          <a:xfrm>
            <a:off x="304920" y="1600200"/>
            <a:ext cx="54100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50-1954</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ticommunism=McCarthyis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reme, reckless charg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redit legitimate concerns </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powerful politician in the U.S.</a:t>
            </a:r>
            <a:endParaRPr b="0" lang="en-US" sz="2800" spc="-1" strike="noStrike">
              <a:solidFill>
                <a:srgbClr val="ffffff"/>
              </a:solidFill>
              <a:latin typeface="Tahoma"/>
            </a:endParaRPr>
          </a:p>
        </p:txBody>
      </p:sp>
      <p:pic>
        <p:nvPicPr>
          <p:cNvPr id="116" name="" descr=""/>
          <p:cNvPicPr/>
          <p:nvPr/>
        </p:nvPicPr>
        <p:blipFill>
          <a:blip r:embed="rId1"/>
          <a:stretch/>
        </p:blipFill>
        <p:spPr>
          <a:xfrm>
            <a:off x="5562720" y="3583080"/>
            <a:ext cx="3581280" cy="32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cCarthy Falls from Power</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4: McCarthy takes on the U.S. Arm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full of communis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my: McCarthy personally motivated</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levised hearing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llying tactic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dger witnesses, twist truth</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t support, power, influen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Have You No Decency?</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Red Scare Fades</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3: Korean War end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54: McCarthy’s downfal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ssignment and Schedul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1, #1, 2</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2, #1, 2</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e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3, #1, 2</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4, #1, 2</a:t>
            </a:r>
            <a:endParaRPr b="0" lang="en-US" sz="2400" spc="-1" strike="noStrike">
              <a:solidFill>
                <a:srgbClr val="ffffff"/>
              </a:solidFill>
              <a:latin typeface="Tahoma"/>
            </a:endParaRPr>
          </a:p>
        </p:txBody>
      </p:sp>
      <p:sp>
        <p:nvSpPr>
          <p:cNvPr id="12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dne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om 10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rs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a Cent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ject</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ida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s!</a:t>
            </a:r>
            <a:endParaRPr b="0" lang="en-US" sz="2400" spc="-1" strike="noStrike">
              <a:solidFill>
                <a:srgbClr val="ffffff"/>
              </a:solidFill>
              <a:latin typeface="Tahoma"/>
            </a:endParaRPr>
          </a:p>
        </p:txBody>
      </p:sp>
      <p:sp>
        <p:nvSpPr>
          <p:cNvPr id="124" name=""/>
          <p:cNvSpPr/>
          <p:nvPr/>
        </p:nvSpPr>
        <p:spPr>
          <a:xfrm>
            <a:off x="380880" y="5562720"/>
            <a:ext cx="81536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ill not be a test for this uni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assessment will be the project and pres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Us-versus-Them”</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crats v. totalitarian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pitalists v. communist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st v. Eas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2" name="" descr=""/>
          <p:cNvPicPr/>
          <p:nvPr/>
        </p:nvPicPr>
        <p:blipFill>
          <a:blip r:embed="rId1"/>
          <a:stretch/>
        </p:blipFill>
        <p:spPr>
          <a:xfrm>
            <a:off x="4836960" y="1219320"/>
            <a:ext cx="381816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Red Scare</a:t>
            </a:r>
            <a:endParaRPr b="0" lang="en-US" sz="4400" spc="-1" strike="noStrike">
              <a:solidFill>
                <a:srgbClr val="ffffcc"/>
              </a:solidFill>
              <a:latin typeface="Tahoma"/>
            </a:endParaRPr>
          </a:p>
        </p:txBody>
      </p:sp>
      <p:pic>
        <p:nvPicPr>
          <p:cNvPr id="94" name="" descr=""/>
          <p:cNvPicPr/>
          <p:nvPr/>
        </p:nvPicPr>
        <p:blipFill>
          <a:blip r:embed="rId1"/>
          <a:stretch/>
        </p:blipFill>
        <p:spPr>
          <a:xfrm>
            <a:off x="658800" y="1219320"/>
            <a:ext cx="3738600" cy="5410080"/>
          </a:xfrm>
          <a:prstGeom prst="rect">
            <a:avLst/>
          </a:prstGeom>
          <a:ln w="0">
            <a:noFill/>
          </a:ln>
        </p:spPr>
      </p:pic>
      <p:sp>
        <p:nvSpPr>
          <p:cNvPr id="95"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sts “are everywhere—in factories, offices, butcher stores, on street corners, and private businesses.  And each carries in himself the death of our societ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2"/>
              </a:rPr>
              <a:t>He May Be A Communist</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Federal Employee Loyalty Program</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947</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reen federal employees for signs of disloyal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00 dismissed or resign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use Un-American Activities Committee (HUAC)</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38</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cists, Nazis, communist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the war—communist activiti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47: Hollywood Te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lacklis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0" name="" descr=""/>
          <p:cNvPicPr/>
          <p:nvPr/>
        </p:nvPicPr>
        <p:blipFill>
          <a:blip r:embed="rId1"/>
          <a:stretch/>
        </p:blipFill>
        <p:spPr>
          <a:xfrm>
            <a:off x="4487760" y="1523880"/>
            <a:ext cx="400068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act on Film</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tainment</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void sensitive social issu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lorified HUAC, anti-communist messages</a:t>
            </a:r>
            <a:endParaRPr b="0" lang="en-US" sz="24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Invasion of the Body Snatchers</a:t>
            </a:r>
            <a:r>
              <a:rPr b="0" lang="en-US" sz="2800" spc="-1" strike="noStrike" u="sng">
                <a:solidFill>
                  <a:srgbClr val="ffffff"/>
                </a:solidFill>
                <a:uFillTx/>
                <a:latin typeface="Tahoma"/>
              </a:rPr>
              <a:t> </a:t>
            </a:r>
            <a:endParaRPr b="0" lang="en-US" sz="2800" spc="-1" strike="noStrike">
              <a:solidFill>
                <a:srgbClr val="ffffff"/>
              </a:solidFill>
              <a:latin typeface="Tahoma"/>
            </a:endParaRPr>
          </a:p>
        </p:txBody>
      </p:sp>
      <p:pic>
        <p:nvPicPr>
          <p:cNvPr id="103" name="" descr=""/>
          <p:cNvPicPr/>
          <p:nvPr/>
        </p:nvPicPr>
        <p:blipFill>
          <a:blip r:embed="rId2"/>
          <a:stretch/>
        </p:blipFill>
        <p:spPr>
          <a:xfrm>
            <a:off x="4648320" y="2286000"/>
            <a:ext cx="4038480" cy="313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vestigation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ong to/contribute to organization on Attorney General’s lis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ing with known communist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loyal remar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spionage</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ger His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lius and Ethel Rosenberg</a:t>
            </a:r>
            <a:endParaRPr b="0" lang="en-US" sz="2800" spc="-1" strike="noStrike">
              <a:solidFill>
                <a:srgbClr val="ffffff"/>
              </a:solidFill>
              <a:latin typeface="Tahoma"/>
            </a:endParaRPr>
          </a:p>
        </p:txBody>
      </p:sp>
      <p:pic>
        <p:nvPicPr>
          <p:cNvPr id="109" name="" descr=""/>
          <p:cNvPicPr/>
          <p:nvPr/>
        </p:nvPicPr>
        <p:blipFill>
          <a:blip r:embed="rId1"/>
          <a:stretch/>
        </p:blipFill>
        <p:spPr>
          <a:xfrm>
            <a:off x="304920" y="2514600"/>
            <a:ext cx="3809880" cy="2971800"/>
          </a:xfrm>
          <a:prstGeom prst="rect">
            <a:avLst/>
          </a:prstGeom>
          <a:ln w="0">
            <a:noFill/>
          </a:ln>
        </p:spPr>
      </p:pic>
      <p:pic>
        <p:nvPicPr>
          <p:cNvPr id="110" name="" descr=""/>
          <p:cNvPicPr/>
          <p:nvPr/>
        </p:nvPicPr>
        <p:blipFill>
          <a:blip r:embed="rId2"/>
          <a:stretch/>
        </p:blipFill>
        <p:spPr>
          <a:xfrm>
            <a:off x="5029200" y="2514600"/>
            <a:ext cx="3214800" cy="292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enator Joseph McCarthy</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itors in the United States</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950: Wheeling, Virginia</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I have here in my hand a list of 205 individuals that were known to the Secretary of State as being members of the Communist Party and who nevertheless are still working and shaping the policy of the State Department.”</a:t>
            </a:r>
            <a:endParaRPr b="0" lang="en-US" sz="2000" spc="-1" strike="noStrike">
              <a:solidFill>
                <a:srgbClr val="ffffff"/>
              </a:solidFill>
              <a:latin typeface="Tahoma"/>
            </a:endParaRPr>
          </a:p>
        </p:txBody>
      </p:sp>
      <p:pic>
        <p:nvPicPr>
          <p:cNvPr id="113" name="" descr=""/>
          <p:cNvPicPr/>
          <p:nvPr/>
        </p:nvPicPr>
        <p:blipFill>
          <a:blip r:embed="rId1"/>
          <a:stretch/>
        </p:blipFill>
        <p:spPr>
          <a:xfrm>
            <a:off x="4756320" y="1758960"/>
            <a:ext cx="4006800" cy="39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02:59:15Z</dcterms:created>
  <dc:creator>Owner</dc:creator>
  <dc:description/>
  <dc:language>en-US</dc:language>
  <cp:lastModifiedBy>Owner</cp:lastModifiedBy>
  <dcterms:modified xsi:type="dcterms:W3CDTF">2010-04-23T06:16:13Z</dcterms:modified>
  <cp:revision>3</cp:revision>
  <dc:subject/>
  <dc:title>The Cold War at Home</dc:title>
</cp:coreProperties>
</file>